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077-DFF3-45C3-B52C-F2AA58C2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B5B-01AA-4FBD-92D9-991C1C59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F1A-C818-46D3-9CCD-7564AA5E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2BE-9126-4E28-8AAE-6A23F381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779-0C51-4DB2-A6F0-E70EB3BE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7D2-7EFE-4FF8-B82F-A69BB230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A61-8D57-49C6-8EB4-A3CC489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460-A909-4739-91F9-AD83C12D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364-E28A-4B4D-8A70-63782C6E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5AE-D90B-47D1-AABF-16769727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235-7AA7-4E80-80F2-289BDBAF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2F8-251F-45AD-AA01-4B947C76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F9CA-8675-4F7C-8400-7A6D7813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kispaces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-1295280" y="666720"/>
            <a:ext cx="1054872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34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 Rounded MT Bold"/>
              </a:rPr>
              <a:t>Creating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ff00"/>
                </a:solidFill>
                <a:latin typeface="Arial Rounded MT Bold"/>
              </a:rPr>
              <a:t>a Free Wiki</a:t>
            </a:r>
            <a:br>
              <a:rPr sz="4800"/>
            </a:br>
            <a:r>
              <a:rPr b="0" lang="en-US" sz="4800" spc="-1" strike="noStrike">
                <a:solidFill>
                  <a:srgbClr val="00ff00"/>
                </a:solidFill>
                <a:latin typeface="Arial Rounded MT Bold"/>
              </a:rPr>
              <a:t>for</a:t>
            </a:r>
            <a:br>
              <a:rPr sz="4800"/>
            </a:br>
            <a:r>
              <a:rPr b="0" lang="en-US" sz="4800" spc="-1" strike="noStrike">
                <a:solidFill>
                  <a:srgbClr val="00ff00"/>
                </a:solidFill>
                <a:latin typeface="Arial Rounded MT Bold"/>
              </a:rPr>
              <a:t>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ype in the web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kispaces.com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address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4220" t="0" r="0" b="37501"/>
          <a:stretch/>
        </p:blipFill>
        <p:spPr>
          <a:xfrm>
            <a:off x="1143000" y="838080"/>
            <a:ext cx="739152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5562720" y="2362320"/>
            <a:ext cx="1066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467" t="0" r="9376" b="22917"/>
          <a:stretch/>
        </p:blipFill>
        <p:spPr>
          <a:xfrm>
            <a:off x="380880" y="380880"/>
            <a:ext cx="8305920" cy="5639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 flipV="1">
            <a:off x="2362320" y="3352680"/>
            <a:ext cx="1295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3657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467" t="0" r="9376" b="32293"/>
          <a:stretch/>
        </p:blipFill>
        <p:spPr>
          <a:xfrm>
            <a:off x="304920" y="457200"/>
            <a:ext cx="8305560" cy="4952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029200" y="464796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5467" t="28124" r="11721" b="0"/>
          <a:stretch/>
        </p:blipFill>
        <p:spPr>
          <a:xfrm>
            <a:off x="457200" y="457200"/>
            <a:ext cx="8077320" cy="5257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3428640" y="2895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4688" b="7294"/>
          <a:stretch/>
        </p:blipFill>
        <p:spPr>
          <a:xfrm>
            <a:off x="0" y="76320"/>
            <a:ext cx="9296280" cy="6781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3124080" y="5791320"/>
            <a:ext cx="1371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5467" t="0" r="4688" b="31250"/>
          <a:stretch/>
        </p:blipFill>
        <p:spPr>
          <a:xfrm>
            <a:off x="380880" y="60948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4688" t="25004" r="28126" b="31250"/>
          <a:stretch/>
        </p:blipFill>
        <p:spPr>
          <a:xfrm>
            <a:off x="304920" y="1157400"/>
            <a:ext cx="8381880" cy="40939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1058760" y="3290760"/>
            <a:ext cx="2065320" cy="2514240"/>
            <a:chOff x="1058760" y="3290760"/>
            <a:chExt cx="2065320" cy="2514240"/>
          </a:xfrm>
        </p:grpSpPr>
        <p:sp>
          <p:nvSpPr>
            <p:cNvPr id="59" name=""/>
            <p:cNvSpPr/>
            <p:nvPr/>
          </p:nvSpPr>
          <p:spPr>
            <a:xfrm flipV="1">
              <a:off x="1058760" y="3290760"/>
              <a:ext cx="1913040" cy="249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066680" y="3747600"/>
              <a:ext cx="198144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066680" y="4204800"/>
              <a:ext cx="20574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059920" y="5348160"/>
            <a:ext cx="247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your Wiki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story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534816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orytelling.wikispaces.c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5500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55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626256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* Make sure you click “Educational Use” – this will eliminate commer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76320"/>
            <a:ext cx="8763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elect either protected, or 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otected will allow you to accept who may belong to the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ivate will only be used by those who you inv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55:56Z</dcterms:created>
  <dc:creator>smartboard</dc:creator>
  <dc:description/>
  <dc:language>en-US</dc:language>
  <cp:lastModifiedBy>smartboard</cp:lastModifiedBy>
  <dcterms:modified xsi:type="dcterms:W3CDTF">2009-08-05T15:13:57Z</dcterms:modified>
  <cp:revision>23</cp:revision>
  <dc:subject/>
  <dc:title>Creating a Free Wiki for Teachers</dc:title>
</cp:coreProperties>
</file>